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E1AB-4A99-4ADC-8F83-DC4D1FF33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EFDB-E767-4087-B12E-F4C18C62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4076-2D34-4721-B214-5FB6F6269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70BA-A24D-42DD-91AA-B56E391A5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957F-1CCB-4BA3-A4B7-FE8F135B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14CD-2FA6-4D2C-86B3-6CF82BD3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5BD1-13C7-40A7-A4F0-C66A193F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3DA7-F53F-4987-8BCE-8A0B0C29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BB37-EA31-4544-9497-1B8F8766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9B4C-2CAE-4B37-A377-E5BC533B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3225-8083-4E58-A97E-F133D298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6F29-3BB7-47B0-90F9-CB624B50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6CE6-52F9-4A19-8229-BFA35A871C97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62 Keď ráno z lôžka vstáv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ráno z lôžka vstáva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ád spievam pieseň chvá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esť, slávu Bohu vzdáva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dnes zase pracova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ak milosti len Božej má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čo ďak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om slabé dieťa tvo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ď ty to dobre vie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poznáš srdce moj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očistiť ho chce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ám žehnaj moje snah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a tebe podoba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odpusť, Pane drah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k zarmútim ťa sná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a do rúk tvojich vkladá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tento dnešný deň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vrúcne, Pane, žiada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 pomoc teba l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keď aj trpká boles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iaľ v srdci rozle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iem, že len tvoja milos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s bôľ môj odveje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20:22:58Z</dcterms:modified>
  <cp:revision>64</cp:revision>
  <dc:subject/>
  <dc:title>Je veľký náš Pán, on slávy je Kráľ Nech do všetkých strán  spev vrúcnych znie chvál.</dc:title>
</cp:coreProperties>
</file>